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038-45ED-41CB-B73B-481BEBA3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4DE-B31B-44A8-A53E-921A760D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DA9-FE30-4401-979B-05D1EF89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E3C-0AF1-4101-AD3F-72C4642B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C095-88B7-45C1-A95B-6EA9EA3E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5833-303E-46AD-BC03-02222A6D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8964-DCEF-459E-9B12-68481B38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520A-03AC-4B0C-9A00-2DFD36E7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90BC-FC4C-4798-9713-AC29E040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2938-53AE-4065-A88C-C27711B3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AA94-40E2-4C69-ACC8-885CA51B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B5B-C359-4B85-9581-1FD4FD43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8A3A-16D5-42F8-A055-7E7D7140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C2BB-DA44-4002-869C-99914B6F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AE3C-D7F3-4498-ABD8-402A0085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F2E6-A47B-4C9A-9AC1-3FF1B353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BC9D-834B-49AD-9CDC-7D661154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B3A7E-6CE8-4238-AACB-0D714C7C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FEE26-DF74-49FF-B52A-B8319F80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4CEE5-4D86-4DC7-8377-8658070D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3917A-367B-4E74-BC89-5E46A071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A77C7-BEFD-4004-9108-30D69623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E87-1D1D-4F27-B498-AFE44A35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CE6B4-302A-4F42-AA32-D89D1155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D2D42-B363-400E-B14E-FEFC22AA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EEEFB-73B0-4031-9C10-19C73532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FFFC0-2993-4960-8CD6-51D719A8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1A26A-22F9-4D52-9A49-B1BFEDF2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F5802-403D-442B-8ED6-383D7678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520B4-2C9D-4FDC-89CC-D504CC10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FEFFB-7305-41B3-9C6C-6F2D1DBD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BE8DB-BA78-4A46-B11D-EE56F599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C2FA-1A04-4D8C-B35C-90369361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783-3E80-47B2-986B-89989BFD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A01C8-3212-4DB7-ABC3-3C63CFD6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9A763-57A8-4591-B489-DE15D037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0CB17-F3C9-4E09-890E-1F060E98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0A91C-3EB4-4E67-986B-AD8E163B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24273-9B12-47A0-83C7-953182D2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52C5E-7DE5-4E4D-894B-B7D81D52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F9DD6-AD66-4928-A8B6-A761D416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D039F-01EC-4B37-B8E8-E9944F04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D14AA-2F72-45D8-9FD3-34CE8655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379A5-E36F-440A-ABD7-798553AF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3E2-8CF3-4F13-8654-C027741F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929E1-FEE9-4A8D-87BC-B33A697A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98879-AAC4-4A4C-ADDA-9F1128AE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1BF72-1A30-4A00-8813-FC73AE92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93E99-2E3F-44E8-A128-FB762BF9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0C300-E9B1-4BBC-96C9-C0FCF0BD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5FC6C-82BB-4A02-8004-4536ECD8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701FB-C0C3-45AA-92BB-4C8B25C1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6B338-E593-4E22-B22A-499912F0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EA592-6A13-45CC-818C-45E0C08D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2361F-4A54-436D-A2B0-AAAD990D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B93-2EF1-4F44-8032-D222F14B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0AEB3-8EA1-48E2-8DDC-A5128BC5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2F8F2-789D-44F8-8977-2C334007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5DB02-972C-4CBE-B0AF-7B1E3D9E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D9A0D-C4F0-414D-B241-9B019322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7B40E6-AB56-4144-AECF-E61E0F07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E94325-5150-4D1B-B52D-EF90D552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B654B9-E0F2-4A58-89CD-536621EA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486B8B-D8F9-4814-B9A0-1AB9FB0B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BD3F08-F64E-40C3-B3D3-9A67BD20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04D12-508D-4C31-90D3-93B062B8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EDE-FE3E-4340-A1C4-124D4335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5C51F-BE92-488F-B37A-A35FC9A1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445F6-B722-41F6-A036-A4139B3B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6C6B06-6728-44B5-BF0E-CEC0B66C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D954F-975A-4BA3-BC65-6BA5B21F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20F86-6162-40C4-9BFD-D3673A41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F29FA-5472-4A50-AFAF-1714D125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A070F-F122-402A-8F97-85327F55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0AD25-42C1-4500-8317-6C345158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B7CE0-EA94-4A3A-91B4-7D31D4D3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95911-309B-44CD-B3DE-7B921558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F07-5088-483F-AC89-C13C9EC3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AD4C8-5301-4E8D-800B-0427A76C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8537E-8D78-4134-B2DC-0EC21181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27E49-6483-4A7E-85F6-5FA87B1C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66F92-C666-4051-AA8C-A7C61702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13BA6-3430-44B0-A47C-AAEAB690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3E4-8172-46E7-90A9-0F50E17B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452B-7469-4515-8348-EEAF821A5980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5A67-69DA-4759-B6E7-6254E1CAEA2F}" type="slidenum">
              <a:rPr b="0" lang="ru-RU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0DA8-7970-44C2-93CF-94A5CA2931D7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B826-D4CB-4A1F-BD1F-EE8CBF8354BE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0802-B852-4A05-BF64-6C63D15FA208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046E-9580-4802-AE44-D78B7D86BAA5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1B8E-82BF-4AE0-81AA-E1C24828EA81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Comic Sans MS"/>
              </a:rPr>
              <a:t>О ЧЕМ ЭТИ ЗАГАДКИ?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pSp>
        <p:nvGrpSpPr>
          <p:cNvPr id="332" name="Содержимое 2"/>
          <p:cNvGrpSpPr/>
          <p:nvPr/>
        </p:nvGrpSpPr>
        <p:grpSpPr>
          <a:xfrm>
            <a:off x="311040" y="969840"/>
            <a:ext cx="8667720" cy="5712120"/>
            <a:chOff x="311040" y="969840"/>
            <a:chExt cx="8667720" cy="5712120"/>
          </a:xfrm>
        </p:grpSpPr>
        <p:pic>
          <p:nvPicPr>
            <p:cNvPr id="333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11040" y="969840"/>
              <a:ext cx="8667720" cy="571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324000" y="981000"/>
              <a:ext cx="8640720" cy="56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228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Через нос проходит в грудь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И обратный держит путь, 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Он невидимый, и все же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Без него мы жить не можем.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                                                                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Всю жизнь с ним   живем,                                                                                                                    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                                                                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а ни разу не видели.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Есть невидимка: в дом не просится, 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а прежде людей бежит торопится.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                                                                   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Я коварный поджигатель. </a:t>
              </a:r>
              <a:br>
                <a:rPr sz="2000"/>
              </a:b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                                                         Вы огня хотите - нате! </a:t>
              </a:r>
              <a:br>
                <a:rPr sz="2000"/>
              </a:b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                                                            Я всесильный окислитель </a:t>
              </a:r>
              <a:br>
                <a:rPr sz="2000"/>
              </a:br>
              <a:r>
                <a:rPr b="0" i="1" lang="ru-RU" sz="2000" spc="-1" strike="noStrike">
                  <a:solidFill>
                    <a:srgbClr val="000000"/>
                  </a:solidFill>
                  <a:latin typeface="Comic Sans MS"/>
                </a:rPr>
                <a:t>                                                              (Если только дров дадите).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5" name="TextBox 4"/>
          <p:cNvSpPr/>
          <p:nvPr/>
        </p:nvSpPr>
        <p:spPr>
          <a:xfrm>
            <a:off x="900000" y="573264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«Воздух вокруг нас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6" descr="ветер.jpg"/>
          <p:cNvPicPr/>
          <p:nvPr/>
        </p:nvPicPr>
        <p:blipFill>
          <a:blip r:embed="rId1"/>
          <a:stretch/>
        </p:blipFill>
        <p:spPr>
          <a:xfrm>
            <a:off x="826920" y="620640"/>
            <a:ext cx="7772400" cy="43322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763280" y="5445000"/>
            <a:ext cx="62643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64b3c"/>
                </a:solidFill>
                <a:latin typeface="Comic Sans MS"/>
              </a:rPr>
              <a:t>Движение воздуха называется ветер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ransition spd="slow">
    <p:push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612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b7d72"/>
                </a:solidFill>
                <a:latin typeface="Comic Sans MS"/>
              </a:rPr>
              <a:t>ЧТО УМЕЕТ ДЕЛАТЬ ВЕТЕР?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3141720"/>
            <a:ext cx="3749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Ветер, ветерок, ветрище…</a:t>
            </a:r>
            <a:br>
              <a:rPr sz="2200"/>
            </a:b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Ты чего по свету рыщешь?</a:t>
            </a:r>
            <a:br>
              <a:rPr sz="2200"/>
            </a:b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Лучше улицы мети</a:t>
            </a:r>
            <a:br>
              <a:rPr sz="2200"/>
            </a:b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Или мельницы крути!  (Я. Аким)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0" y="836280"/>
            <a:ext cx="40388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      </a:t>
            </a: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Ветер! Ветер! Ты могуч!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      </a:t>
            </a: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Ты гоняешь стаи туч, 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      </a:t>
            </a: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Ты волнуешь сине море,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      </a:t>
            </a: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Всюду веешь на просторе,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      </a:t>
            </a: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Не боишься никого,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      </a:t>
            </a: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Кроме Бога одного.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      </a:t>
            </a:r>
            <a:r>
              <a:rPr b="0" lang="ru-RU" sz="2200" spc="-1" strike="noStrike">
                <a:solidFill>
                  <a:srgbClr val="564b3c"/>
                </a:solidFill>
                <a:latin typeface="Comic Sans MS"/>
              </a:rPr>
              <a:t>(А.Пушкин)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9" name="Рисунок 12" descr="12223.jpg"/>
          <p:cNvPicPr/>
          <p:nvPr/>
        </p:nvPicPr>
        <p:blipFill>
          <a:blip r:embed="rId1"/>
          <a:stretch/>
        </p:blipFill>
        <p:spPr>
          <a:xfrm>
            <a:off x="5219640" y="4653000"/>
            <a:ext cx="2737080" cy="172872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13" descr="1254.jpg"/>
          <p:cNvPicPr/>
          <p:nvPr/>
        </p:nvPicPr>
        <p:blipFill>
          <a:blip r:embed="rId2"/>
          <a:stretch/>
        </p:blipFill>
        <p:spPr>
          <a:xfrm>
            <a:off x="611280" y="1052640"/>
            <a:ext cx="302400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7" nodeType="afterEffect" fill="hold" presetClass="entr" presetID="16" presetSubtype="2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111" nodeType="afterEffect" fill="hold" presetClass="entr" presetID="16" presetSubtype="2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Содержимое 6" descr="0_9e8de_6a89e4af_XL.jpg"/>
          <p:cNvPicPr/>
          <p:nvPr/>
        </p:nvPicPr>
        <p:blipFill>
          <a:blip r:embed="rId1"/>
          <a:stretch/>
        </p:blipFill>
        <p:spPr>
          <a:xfrm>
            <a:off x="4427640" y="260280"/>
            <a:ext cx="4572000" cy="25718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4176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8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Ветер с юга дул на север,</a:t>
            </a:r>
            <a:br>
              <a:rPr sz="1800"/>
            </a:b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Подметал с дороги пыль,</a:t>
            </a:r>
            <a:br>
              <a:rPr sz="1800"/>
            </a:b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Колыхал на поле клевер</a:t>
            </a:r>
            <a:br>
              <a:rPr sz="1800"/>
            </a:b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И расчёсывал ковыль.</a:t>
            </a:r>
            <a:br>
              <a:rPr sz="1800"/>
            </a:b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Перелистывал травинки,</a:t>
            </a:r>
            <a:br>
              <a:rPr sz="1800"/>
            </a:b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Всё отметил, всё учёл,</a:t>
            </a:r>
            <a:br>
              <a:rPr sz="1800"/>
            </a:b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Всех козявок на тропинке,</a:t>
            </a:r>
            <a:br>
              <a:rPr sz="1800"/>
            </a:b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Всех кузнечиков и пчёл.</a:t>
            </a:r>
            <a:br>
              <a:rPr sz="1800"/>
            </a:b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Растрепал кусты и сходу</a:t>
            </a:r>
            <a:br>
              <a:rPr sz="1800"/>
            </a:b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За жужжание и гул</a:t>
            </a:r>
            <a:br>
              <a:rPr sz="1800"/>
            </a:b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Взял и овода на воду</a:t>
            </a:r>
            <a:br>
              <a:rPr sz="1800"/>
            </a:b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С камыша сердито сдул.</a:t>
            </a:r>
            <a:br>
              <a:rPr sz="1800"/>
            </a:b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По реке прошёл волнами,</a:t>
            </a:r>
            <a:br>
              <a:rPr sz="1800"/>
            </a:b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Поплавком, шутя, качнул,</a:t>
            </a:r>
            <a:br>
              <a:rPr sz="1800"/>
            </a:b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Влез на лодку между нами</a:t>
            </a:r>
            <a:br>
              <a:rPr sz="1800"/>
            </a:b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Повозился и уснул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108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(М.Придворов)</a:t>
            </a:r>
            <a:br>
              <a:rPr sz="1800"/>
            </a:b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108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Прямоугольник 1"/>
          <p:cNvSpPr/>
          <p:nvPr/>
        </p:nvSpPr>
        <p:spPr>
          <a:xfrm>
            <a:off x="4141440" y="3281400"/>
            <a:ext cx="42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А также воздух используется в играх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4" name="Содержимое 6" descr="news3765.jpg"/>
          <p:cNvPicPr/>
          <p:nvPr/>
        </p:nvPicPr>
        <p:blipFill>
          <a:blip r:embed="rId2"/>
          <a:stretch/>
        </p:blipFill>
        <p:spPr>
          <a:xfrm rot="21192000">
            <a:off x="3036600" y="4460760"/>
            <a:ext cx="2462040" cy="1940040"/>
          </a:xfrm>
          <a:prstGeom prst="rect">
            <a:avLst/>
          </a:prstGeom>
          <a:ln w="0">
            <a:noFill/>
          </a:ln>
        </p:spPr>
      </p:pic>
      <p:pic>
        <p:nvPicPr>
          <p:cNvPr id="375" name="Содержимое 7" descr="37937177.jpg"/>
          <p:cNvPicPr/>
          <p:nvPr/>
        </p:nvPicPr>
        <p:blipFill>
          <a:blip r:embed="rId3"/>
          <a:stretch/>
        </p:blipFill>
        <p:spPr>
          <a:xfrm rot="693000">
            <a:off x="5906880" y="4122360"/>
            <a:ext cx="2823840" cy="2114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4392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b7d72"/>
                </a:solidFill>
                <a:latin typeface="Comic Sans MS"/>
              </a:rPr>
              <a:t>БЕЗ ВОЗДУХА ОНИ НЕ ЛЕТАЮТ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7" name="Содержимое 4" descr="0a1af9545180ddb5c4673c83eba1892b.jpg"/>
          <p:cNvPicPr/>
          <p:nvPr/>
        </p:nvPicPr>
        <p:blipFill>
          <a:blip r:embed="rId1"/>
          <a:stretch/>
        </p:blipFill>
        <p:spPr>
          <a:xfrm>
            <a:off x="468360" y="692280"/>
            <a:ext cx="3071880" cy="2305080"/>
          </a:xfrm>
          <a:prstGeom prst="rect">
            <a:avLst/>
          </a:prstGeom>
          <a:ln w="0">
            <a:noFill/>
          </a:ln>
        </p:spPr>
      </p:pic>
      <p:pic>
        <p:nvPicPr>
          <p:cNvPr id="378" name="Содержимое 5" descr="ogoom.com_1306068543_idacb5nc2ma61tb.jpeg"/>
          <p:cNvPicPr/>
          <p:nvPr/>
        </p:nvPicPr>
        <p:blipFill>
          <a:blip r:embed="rId2"/>
          <a:stretch/>
        </p:blipFill>
        <p:spPr>
          <a:xfrm>
            <a:off x="4859280" y="260280"/>
            <a:ext cx="3554640" cy="3208320"/>
          </a:xfrm>
          <a:prstGeom prst="rect">
            <a:avLst/>
          </a:prstGeom>
          <a:ln w="0">
            <a:noFill/>
          </a:ln>
        </p:spPr>
      </p:pic>
      <p:sp>
        <p:nvSpPr>
          <p:cNvPr id="379" name="Заголовок 1"/>
          <p:cNvSpPr/>
          <p:nvPr/>
        </p:nvSpPr>
        <p:spPr>
          <a:xfrm>
            <a:off x="395280" y="3645000"/>
            <a:ext cx="41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b7d72"/>
                </a:solidFill>
                <a:latin typeface="Comic Sans MS"/>
              </a:rPr>
              <a:t>ВОЗДУХ ИСПОЛЬЗУЕТСЯ В БЫТУ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0" name="Содержимое 4" descr="39545c497cc37dd972a5849523635eed_m1.jpg"/>
          <p:cNvPicPr/>
          <p:nvPr/>
        </p:nvPicPr>
        <p:blipFill>
          <a:blip r:embed="rId3"/>
          <a:stretch/>
        </p:blipFill>
        <p:spPr>
          <a:xfrm>
            <a:off x="1606680" y="4289400"/>
            <a:ext cx="3240000" cy="2305080"/>
          </a:xfrm>
          <a:prstGeom prst="rect">
            <a:avLst/>
          </a:prstGeom>
          <a:ln w="0">
            <a:noFill/>
          </a:ln>
        </p:spPr>
      </p:pic>
      <p:pic>
        <p:nvPicPr>
          <p:cNvPr id="381" name="Содержимое 5" descr="Miele-S-4511-5.jpg"/>
          <p:cNvPicPr/>
          <p:nvPr/>
        </p:nvPicPr>
        <p:blipFill>
          <a:blip r:embed="rId4"/>
          <a:stretch/>
        </p:blipFill>
        <p:spPr>
          <a:xfrm>
            <a:off x="6588000" y="3881520"/>
            <a:ext cx="187020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6" presetSubtype="2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41036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b7d72"/>
                </a:solidFill>
                <a:latin typeface="Comic Sans MS"/>
              </a:rPr>
              <a:t>ВОЗДУХ НУЖЕН ДЛЯ ИХ РАБОТЫ</a:t>
            </a:r>
            <a:endParaRPr b="0" lang="en-US" sz="18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3" name="Содержимое 4" descr="wall__255_386595.jpg"/>
          <p:cNvPicPr/>
          <p:nvPr/>
        </p:nvPicPr>
        <p:blipFill>
          <a:blip r:embed="rId1"/>
          <a:stretch/>
        </p:blipFill>
        <p:spPr>
          <a:xfrm rot="20994000">
            <a:off x="666720" y="988920"/>
            <a:ext cx="2714760" cy="1693800"/>
          </a:xfrm>
          <a:prstGeom prst="rect">
            <a:avLst/>
          </a:prstGeom>
          <a:ln w="0">
            <a:noFill/>
          </a:ln>
        </p:spPr>
      </p:pic>
      <p:pic>
        <p:nvPicPr>
          <p:cNvPr id="384" name="Содержимое 5" descr="pryzhok_s_parashyutom_1332x1204.jpg"/>
          <p:cNvPicPr/>
          <p:nvPr/>
        </p:nvPicPr>
        <p:blipFill>
          <a:blip r:embed="rId2"/>
          <a:stretch/>
        </p:blipFill>
        <p:spPr>
          <a:xfrm rot="823800">
            <a:off x="4684680" y="460440"/>
            <a:ext cx="3197160" cy="254160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2"/>
          <p:cNvSpPr/>
          <p:nvPr/>
        </p:nvSpPr>
        <p:spPr>
          <a:xfrm>
            <a:off x="250920" y="3105000"/>
            <a:ext cx="66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Воздух- среда обитания живых существ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6" name="Рисунок 6" descr="zo vrij als een duif.jpg"/>
          <p:cNvPicPr/>
          <p:nvPr/>
        </p:nvPicPr>
        <p:blipFill>
          <a:blip r:embed="rId3"/>
          <a:stretch/>
        </p:blipFill>
        <p:spPr>
          <a:xfrm>
            <a:off x="378000" y="3718080"/>
            <a:ext cx="1981080" cy="2689200"/>
          </a:xfrm>
          <a:prstGeom prst="rect">
            <a:avLst/>
          </a:prstGeom>
          <a:ln w="0">
            <a:noFill/>
          </a:ln>
        </p:spPr>
      </p:pic>
      <p:pic>
        <p:nvPicPr>
          <p:cNvPr id="387" name="Содержимое 3" descr="158.jpg"/>
          <p:cNvPicPr/>
          <p:nvPr/>
        </p:nvPicPr>
        <p:blipFill>
          <a:blip r:embed="rId4"/>
          <a:stretch/>
        </p:blipFill>
        <p:spPr>
          <a:xfrm>
            <a:off x="1258920" y="5157720"/>
            <a:ext cx="2448000" cy="151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88" name="Рисунок 8" descr="img_17687365_44_2.jpg"/>
          <p:cNvPicPr/>
          <p:nvPr/>
        </p:nvPicPr>
        <p:blipFill>
          <a:blip r:embed="rId5"/>
          <a:stretch/>
        </p:blipFill>
        <p:spPr>
          <a:xfrm>
            <a:off x="5126040" y="4438800"/>
            <a:ext cx="3133800" cy="3760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5984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b7d72"/>
                </a:solidFill>
                <a:latin typeface="Comic Sans MS"/>
              </a:rPr>
              <a:t>РАСТЕНИЯ- ЛЕГКИЕ ЗЕМЛИ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0" name="Содержимое 3" descr="0.869148001294788947_irannaz_com.jpg"/>
          <p:cNvPicPr/>
          <p:nvPr/>
        </p:nvPicPr>
        <p:blipFill>
          <a:blip r:embed="rId1"/>
          <a:stretch/>
        </p:blipFill>
        <p:spPr>
          <a:xfrm>
            <a:off x="1425600" y="1773360"/>
            <a:ext cx="5832360" cy="437328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2"/>
          <p:cNvSpPr/>
          <p:nvPr/>
        </p:nvSpPr>
        <p:spPr>
          <a:xfrm>
            <a:off x="194400" y="18900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очему его не становится меньше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TextBox 4"/>
          <p:cNvSpPr/>
          <p:nvPr/>
        </p:nvSpPr>
        <p:spPr>
          <a:xfrm>
            <a:off x="7596360" y="5732640"/>
            <a:ext cx="7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НО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6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b7d72"/>
                </a:solidFill>
                <a:latin typeface="Comic Sans MS"/>
              </a:rPr>
              <a:t>ЭТО ЗАГРЯЗНЯЕТ ВОЗДУХ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4" name="Содержимое 3" descr="1200204255_5.jpg"/>
          <p:cNvPicPr/>
          <p:nvPr/>
        </p:nvPicPr>
        <p:blipFill>
          <a:blip r:embed="rId1"/>
          <a:stretch/>
        </p:blipFill>
        <p:spPr>
          <a:xfrm>
            <a:off x="5261040" y="1200240"/>
            <a:ext cx="3376440" cy="215244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4" descr="1268092208_1-6.jpg"/>
          <p:cNvPicPr/>
          <p:nvPr/>
        </p:nvPicPr>
        <p:blipFill>
          <a:blip r:embed="rId2"/>
          <a:stretch/>
        </p:blipFill>
        <p:spPr>
          <a:xfrm>
            <a:off x="665280" y="1103400"/>
            <a:ext cx="3693960" cy="22557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5" descr="city_of_smog.jpg"/>
          <p:cNvPicPr/>
          <p:nvPr/>
        </p:nvPicPr>
        <p:blipFill>
          <a:blip r:embed="rId3"/>
          <a:stretch/>
        </p:blipFill>
        <p:spPr>
          <a:xfrm>
            <a:off x="1938240" y="3565440"/>
            <a:ext cx="5127840" cy="2768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7d72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6b7d72"/>
                </a:solidFill>
                <a:latin typeface="Comic Sans MS"/>
              </a:rPr>
              <a:t>ВОЗДУХ НЕОБХОДИМО ОХРАНЯТЬ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9" name="Рисунок 3" descr="100889.jpg"/>
          <p:cNvPicPr/>
          <p:nvPr/>
        </p:nvPicPr>
        <p:blipFill>
          <a:blip r:embed="rId1"/>
          <a:stretch/>
        </p:blipFill>
        <p:spPr>
          <a:xfrm>
            <a:off x="1403280" y="1700280"/>
            <a:ext cx="6337440" cy="424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56" nodeType="afterEffect" fill="hold" presetClass="entr" presetID="1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381200" y="620640"/>
            <a:ext cx="476244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64b3c"/>
                </a:solidFill>
                <a:latin typeface="Comic Sans MS"/>
              </a:rPr>
              <a:t>   </a:t>
            </a: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Нам подарила наша земля,</a:t>
            </a:r>
            <a:br>
              <a:rPr sz="2000"/>
            </a:b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Леса и просторы, поля и моря!</a:t>
            </a:r>
            <a:br>
              <a:rPr sz="2000"/>
            </a:b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Воздух хрустальный, птиц песнопение</a:t>
            </a:r>
            <a:br>
              <a:rPr sz="2000"/>
            </a:b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А по весне- деревьев цветение.</a:t>
            </a:r>
            <a:br>
              <a:rPr sz="2000"/>
            </a:b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Радуги цвет над лесными полянами,</a:t>
            </a:r>
            <a:br>
              <a:rPr sz="2000"/>
            </a:b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Зореньки ясные утрами ранними.</a:t>
            </a:r>
            <a:br>
              <a:rPr sz="2000"/>
            </a:b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Наша планета -очень мала.</a:t>
            </a:r>
            <a:br>
              <a:rPr sz="2000"/>
            </a:b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Люди, прошу вас, не делайте зла!</a:t>
            </a:r>
            <a:br>
              <a:rPr sz="2000"/>
            </a:b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Надо планету нам сохранить!</a:t>
            </a:r>
            <a:br>
              <a:rPr sz="2000"/>
            </a:b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Мир на планете, беречь и любить! 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401" name="Рисунок 6" descr="Earth-hands_aussiegall-flickr.jpg"/>
          <p:cNvPicPr/>
          <p:nvPr/>
        </p:nvPicPr>
        <p:blipFill>
          <a:blip r:embed="rId1"/>
          <a:stretch/>
        </p:blipFill>
        <p:spPr>
          <a:xfrm rot="20806800">
            <a:off x="553680" y="2076120"/>
            <a:ext cx="37450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Содержимое 2"/>
          <p:cNvGrpSpPr/>
          <p:nvPr/>
        </p:nvGrpSpPr>
        <p:grpSpPr>
          <a:xfrm>
            <a:off x="96840" y="176040"/>
            <a:ext cx="8950320" cy="6505920"/>
            <a:chOff x="96840" y="176040"/>
            <a:chExt cx="8950320" cy="6505920"/>
          </a:xfrm>
        </p:grpSpPr>
        <p:pic>
          <p:nvPicPr>
            <p:cNvPr id="337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96840" y="176040"/>
              <a:ext cx="8950320" cy="65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08000" y="189000"/>
              <a:ext cx="892800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22860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ffff00"/>
                  </a:solidFill>
                  <a:latin typeface="Century Gothic"/>
                </a:rPr>
                <a:t>     </a:t>
              </a:r>
              <a:endParaRPr b="0" lang="en-US" sz="22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 algn="ctr">
                <a:lnSpc>
                  <a:spcPct val="13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900" spc="-1" strike="noStrike">
                  <a:solidFill>
                    <a:srgbClr val="000000"/>
                  </a:solidFill>
                  <a:latin typeface="Comic Sans MS"/>
                </a:rPr>
                <a:t>Воздух- это прозрачный, бесцветный газ. </a:t>
              </a: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 algn="ctr">
                <a:lnSpc>
                  <a:spcPct val="13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9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0" i="1" lang="ru-RU" sz="1900" spc="-1" strike="noStrike">
                  <a:solidFill>
                    <a:srgbClr val="000000"/>
                  </a:solidFill>
                  <a:latin typeface="Comic Sans MS"/>
                </a:rPr>
                <a:t>Воздух находится повсюду и заполняет все щели, все промежутки, все трещинки и щелки в предметах. Он растворен в воде морей, озер, рек, ручьев.</a:t>
              </a: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 algn="ctr">
                <a:lnSpc>
                  <a:spcPct val="13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9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0" i="1" lang="ru-RU" sz="1900" spc="-1" strike="noStrike">
                  <a:solidFill>
                    <a:srgbClr val="000000"/>
                  </a:solidFill>
                  <a:latin typeface="Comic Sans MS"/>
                </a:rPr>
                <a:t>Воздух- это то, чем мы дышим. Он состоит из природной смеси</a:t>
              </a: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 algn="ctr">
                <a:lnSpc>
                  <a:spcPct val="13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900" spc="-1" strike="noStrike">
                  <a:solidFill>
                    <a:srgbClr val="000000"/>
                  </a:solidFill>
                  <a:latin typeface="Comic Sans MS"/>
                </a:rPr>
                <a:t>газов и необходим всему живому на земле: человеку, животным,</a:t>
              </a: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 algn="ctr">
                <a:lnSpc>
                  <a:spcPct val="13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900" spc="-1" strike="noStrike">
                  <a:solidFill>
                    <a:srgbClr val="000000"/>
                  </a:solidFill>
                  <a:latin typeface="Comic Sans MS"/>
                </a:rPr>
                <a:t>растениям.</a:t>
              </a: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 algn="ctr">
                <a:lnSpc>
                  <a:spcPct val="13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9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0" i="1" lang="ru-RU" sz="1900" spc="-1" strike="noStrike">
                  <a:solidFill>
                    <a:srgbClr val="000000"/>
                  </a:solidFill>
                  <a:latin typeface="Comic Sans MS"/>
                </a:rPr>
                <a:t>Когда мы вдыхаем воздух, в наш организм поступает кислород,</a:t>
              </a: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 algn="ctr">
                <a:lnSpc>
                  <a:spcPct val="13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900" spc="-1" strike="noStrike">
                  <a:solidFill>
                    <a:srgbClr val="000000"/>
                  </a:solidFill>
                  <a:latin typeface="Comic Sans MS"/>
                </a:rPr>
                <a:t>который попадает в кровь и даёт необходимую жизненную энергию.</a:t>
              </a: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 algn="ctr">
                <a:lnSpc>
                  <a:spcPct val="13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900" spc="-1" strike="noStrike">
                  <a:solidFill>
                    <a:srgbClr val="000000"/>
                  </a:solidFill>
                  <a:latin typeface="Comic Sans MS"/>
                </a:rPr>
                <a:t>Без воздуха человек может прожить не больше пяти минут. Именно</a:t>
              </a: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 algn="ctr">
                <a:lnSpc>
                  <a:spcPct val="13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900" spc="-1" strike="noStrike">
                  <a:solidFill>
                    <a:srgbClr val="000000"/>
                  </a:solidFill>
                  <a:latin typeface="Comic Sans MS"/>
                </a:rPr>
                <a:t>этот факт делает его самым важным элементом окружающей</a:t>
              </a: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 algn="ctr">
                <a:lnSpc>
                  <a:spcPct val="13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900" spc="-1" strike="noStrike">
                  <a:solidFill>
                    <a:srgbClr val="000000"/>
                  </a:solidFill>
                  <a:latin typeface="Comic Sans MS"/>
                </a:rPr>
                <a:t>среды.</a:t>
              </a: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 algn="ctr">
                <a:lnSpc>
                  <a:spcPct val="13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9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0" i="1" lang="ru-RU" sz="1900" spc="-1" strike="noStrike">
                  <a:solidFill>
                    <a:srgbClr val="000000"/>
                  </a:solidFill>
                  <a:latin typeface="Comic Sans MS"/>
                </a:rPr>
                <a:t>Воздух формирует собой атмосферу – оболочку вокруг нашей</a:t>
              </a: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343080" indent="-228600" algn="ctr">
                <a:lnSpc>
                  <a:spcPct val="13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900" spc="-1" strike="noStrike">
                  <a:solidFill>
                    <a:srgbClr val="000000"/>
                  </a:solidFill>
                  <a:latin typeface="Comic Sans MS"/>
                </a:rPr>
                <a:t>планеты Земли, которая позволяет нам спокойно дышать и жить.</a:t>
              </a: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7d72"/>
                </a:solidFill>
                <a:latin typeface="Comic Sans MS"/>
              </a:rPr>
              <a:t>ВОЗДУХ- ЭТО СМЕСЬ ГАЗОВ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0" name="Содержимое 3" descr=""/>
          <p:cNvPicPr/>
          <p:nvPr/>
        </p:nvPicPr>
        <p:blipFill>
          <a:blip r:embed="rId1"/>
          <a:stretch/>
        </p:blipFill>
        <p:spPr>
          <a:xfrm>
            <a:off x="406440" y="1701720"/>
            <a:ext cx="8331120" cy="4475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7d72"/>
                </a:solidFill>
                <a:latin typeface="Comic Sans MS"/>
              </a:rPr>
              <a:t>КАКОЙ ГАЗ САМЫЙ ВАЖНЫЙ?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В некотором царстве, в некотором государстве жила была старуха Атмосфера, и было у нее три сына: азот, кислород и углекислый газ. Кормила мать детей, пока они не выросли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Однажды стала старуха разжигать печь и попросила сходить их в лес за дровами. Идут они по лесу, одного радостно встречают зеленые растения, тянутся листочками к нему, он нужен им для дыхания, другой оказался среди жуков, зайцев и белок, он им был необходим. Увидели братья в лесу колодец, захотелось им испить водички. Один нагнулся – вода помутнела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Вернулись братья из леса, решила старуха подвергнуть их испытаниям. Кто может растопить печь? Чтобы разгорелись дрова в печке, дунул на них один из братьев, огонь загорелся, чтобы не отстать от брата дунул другой – огонь погас. Разругались братья, разошлись по разным углам, в одной комнате царило веселье, здоровье, радость, в другой – головная боль, слабость, болезни. Но несмотря на это они не могли жить друг без друга”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Содержимое 5" descr="воздух.jpg"/>
          <p:cNvPicPr/>
          <p:nvPr/>
        </p:nvPicPr>
        <p:blipFill>
          <a:blip r:embed="rId1"/>
          <a:stretch/>
        </p:blipFill>
        <p:spPr>
          <a:xfrm rot="20823000">
            <a:off x="4498920" y="601200"/>
            <a:ext cx="4024440" cy="30178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Он – прозрачный невидимка,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Легкий и бесцветный газ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Невесомою косынкой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Он окутывает нас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Он в лесу – густой, душистый,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Пахнет свежестью смолистой,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Пахнет дубом и сосной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Летом он бывает тёплым,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Веет холодом зимой,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Когда иней красит стекла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И лежит на них каймой,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Мы о нём не говорим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Просто мы его вдыхаем –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Он ведь нам необходим!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5" name="Прямоугольник 1"/>
          <p:cNvSpPr/>
          <p:nvPr/>
        </p:nvSpPr>
        <p:spPr>
          <a:xfrm>
            <a:off x="297000" y="333360"/>
            <a:ext cx="36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войства воздух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64072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b7d72"/>
                </a:solidFill>
                <a:latin typeface="Comic Sans MS"/>
              </a:rPr>
              <a:t>«ПОЙМАЙ ВОЗДУХ» </a:t>
            </a:r>
            <a:br>
              <a:rPr sz="1800"/>
            </a:br>
            <a:r>
              <a:rPr b="0" i="1" lang="ru-RU" sz="1800" spc="-1" strike="noStrike">
                <a:solidFill>
                  <a:srgbClr val="6b7d72"/>
                </a:solidFill>
                <a:latin typeface="Comic Sans MS"/>
              </a:rPr>
              <a:t>ОПЫТ № 1 </a:t>
            </a:r>
            <a:br>
              <a:rPr sz="1800"/>
            </a:br>
            <a:endParaRPr b="0" lang="en-US" sz="18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7" name="Содержимое 4" descr="0c2843f4a05be470980fb85211811111.jpg"/>
          <p:cNvPicPr/>
          <p:nvPr/>
        </p:nvPicPr>
        <p:blipFill>
          <a:blip r:embed="rId1"/>
          <a:stretch/>
        </p:blipFill>
        <p:spPr>
          <a:xfrm rot="4831200">
            <a:off x="6057000" y="842040"/>
            <a:ext cx="3375000" cy="22492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Взять пустой прозрачный пакет или шарик, надуть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Внутри что-то есть…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Это воздух.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Он принимает форму того предмета, в котором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находится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Почему мы его не видим?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Ответ прост. Он прозрачен и бесцветен</a:t>
            </a:r>
            <a:r>
              <a:rPr b="0" lang="ru-RU" sz="1800" spc="-1" strike="noStrike">
                <a:solidFill>
                  <a:srgbClr val="564b3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9" name="Заголовок 1"/>
          <p:cNvSpPr/>
          <p:nvPr/>
        </p:nvSpPr>
        <p:spPr>
          <a:xfrm>
            <a:off x="1403280" y="3429000"/>
            <a:ext cx="54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b7d72"/>
                </a:solidFill>
                <a:latin typeface="Comic Sans MS"/>
              </a:rPr>
              <a:t>«УВИДЕТЬ ВОЗДУХ» </a:t>
            </a:r>
            <a:br>
              <a:rPr sz="1800"/>
            </a:br>
            <a:r>
              <a:rPr b="0" i="1" lang="ru-RU" sz="1800" spc="-1" strike="noStrike">
                <a:solidFill>
                  <a:srgbClr val="6b7d72"/>
                </a:solidFill>
                <a:latin typeface="Comic Sans MS"/>
              </a:rPr>
              <a:t>ОПЫТ № 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Текст 3"/>
          <p:cNvSpPr/>
          <p:nvPr/>
        </p:nvSpPr>
        <p:spPr>
          <a:xfrm>
            <a:off x="250920" y="4233960"/>
            <a:ext cx="8137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Взять соломинку и подуть в стакан с водой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На поверхности появятся пузырьки- это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воздух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1" name="Содержимое 4" descr="lab-02.gif"/>
          <p:cNvPicPr/>
          <p:nvPr/>
        </p:nvPicPr>
        <p:blipFill>
          <a:blip r:embed="rId2"/>
          <a:stretch/>
        </p:blipFill>
        <p:spPr>
          <a:xfrm>
            <a:off x="6351480" y="4437000"/>
            <a:ext cx="2668680" cy="1979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233280"/>
            <a:ext cx="826128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b7d72"/>
                </a:solidFill>
                <a:latin typeface="Comic Sans MS"/>
              </a:rPr>
              <a:t>ВОЗДУХ МОЖНО УСЛЫШАТЬ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3" name="Содержимое 3" descr="52140490_52140490forumtonnel.gif.jpg"/>
          <p:cNvPicPr/>
          <p:nvPr/>
        </p:nvPicPr>
        <p:blipFill>
          <a:blip r:embed="rId1"/>
          <a:stretch/>
        </p:blipFill>
        <p:spPr>
          <a:xfrm>
            <a:off x="395280" y="1052640"/>
            <a:ext cx="3166920" cy="26398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4" descr="749253_105230_1285737722.jpg"/>
          <p:cNvPicPr/>
          <p:nvPr/>
        </p:nvPicPr>
        <p:blipFill>
          <a:blip r:embed="rId2"/>
          <a:stretch/>
        </p:blipFill>
        <p:spPr>
          <a:xfrm>
            <a:off x="2268360" y="3141720"/>
            <a:ext cx="4640400" cy="336060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5" descr="wm257417tt.jpg"/>
          <p:cNvPicPr/>
          <p:nvPr/>
        </p:nvPicPr>
        <p:blipFill>
          <a:blip r:embed="rId3"/>
          <a:stretch/>
        </p:blipFill>
        <p:spPr>
          <a:xfrm>
            <a:off x="5915160" y="800280"/>
            <a:ext cx="2904840" cy="2341440"/>
          </a:xfrm>
          <a:prstGeom prst="rect">
            <a:avLst/>
          </a:prstGeom>
          <a:ln w="0">
            <a:noFill/>
          </a:ln>
        </p:spPr>
      </p:pic>
      <p:pic>
        <p:nvPicPr>
          <p:cNvPr id="356" name="Шум ветра.mp3" descr=""/>
          <p:cNvPicPr/>
          <p:nvPr/>
        </p:nvPicPr>
        <p:blipFill>
          <a:blip r:embed="rId4"/>
          <a:stretch/>
        </p:blipFill>
        <p:spPr>
          <a:xfrm>
            <a:off x="4427640" y="1665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335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612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b7d72"/>
                </a:solidFill>
                <a:latin typeface="Comic Sans MS"/>
              </a:rPr>
              <a:t>ДЫХАТЕЛЬНАЯ ГИМНАСТИКА</a:t>
            </a:r>
            <a:endParaRPr b="0" lang="en-US" sz="2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9280" y="90756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      </a:t>
            </a: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Любопытная Варвара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     </a:t>
            </a: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Смотрит влево, смотрит вправо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     </a:t>
            </a: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Чем же пахнет – не понять,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     </a:t>
            </a: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Нужно носиком вдыхать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     </a:t>
            </a: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Выдох-вдох, выдох- вдох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     </a:t>
            </a: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Чудо-воздух – ох-ох-ох!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     </a:t>
            </a: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Очень весело играем –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     </a:t>
            </a: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Нюхать воздух начинаем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     </a:t>
            </a: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Чем же пахнет? Не понять –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     </a:t>
            </a: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Нужно носиком вдыхать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     </a:t>
            </a: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Выдох-вдох, выдох- вдох.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     </a:t>
            </a:r>
            <a:r>
              <a:rPr b="0" i="1" lang="ru-RU" sz="2000" spc="-1" strike="noStrike">
                <a:solidFill>
                  <a:srgbClr val="564b3c"/>
                </a:solidFill>
                <a:latin typeface="Comic Sans MS"/>
              </a:rPr>
              <a:t>Чудо-воздух – ох-ох-ох!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35880" indent="-22392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9" name="Рисунок 4" descr="12458.jpg"/>
          <p:cNvPicPr/>
          <p:nvPr/>
        </p:nvPicPr>
        <p:blipFill>
          <a:blip r:embed="rId1"/>
          <a:stretch/>
        </p:blipFill>
        <p:spPr>
          <a:xfrm rot="795600">
            <a:off x="4573080" y="1382760"/>
            <a:ext cx="4248360" cy="324000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3"/>
          <p:cNvSpPr/>
          <p:nvPr/>
        </p:nvSpPr>
        <p:spPr>
          <a:xfrm>
            <a:off x="4615200" y="5877000"/>
            <a:ext cx="35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У воздуха есть запах?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23640" y="188640"/>
            <a:ext cx="56163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Пахнет грибами, листом перепрелым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Пахнет и чем-то другим,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Точно горелым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В синей дали наползающий медленный дым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Дым и ползет, и как будто бы ждет он чего-то,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Будто бы он говорит: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Вот я, идите же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Это горит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Торфяное болото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                       </a:t>
            </a:r>
            <a:r>
              <a:rPr b="0" i="1" lang="ru-RU" sz="1800" spc="-1" strike="noStrike">
                <a:solidFill>
                  <a:srgbClr val="564b3c"/>
                </a:solidFill>
                <a:latin typeface="Comic Sans MS"/>
              </a:rPr>
              <a:t>(К.Бальмонт)</a:t>
            </a:r>
            <a:br>
              <a:rPr sz="1800"/>
            </a:b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2" name="Рисунок 3" descr="147.jpg"/>
          <p:cNvPicPr/>
          <p:nvPr/>
        </p:nvPicPr>
        <p:blipFill>
          <a:blip r:embed="rId1"/>
          <a:stretch/>
        </p:blipFill>
        <p:spPr>
          <a:xfrm rot="20698200">
            <a:off x="5051160" y="1776240"/>
            <a:ext cx="3132000" cy="199260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4"/>
          <p:cNvSpPr/>
          <p:nvPr/>
        </p:nvSpPr>
        <p:spPr>
          <a:xfrm>
            <a:off x="468360" y="414972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оздух двигается и доносит до нас разные запах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ам воздух запаха не имеет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7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9" nodeType="afterEffect" fill="hold" presetClass="entr" presetID="41">
                                  <p:stCondLst>
                                    <p:cond delay="75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7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08:53:37Z</dcterms:created>
  <dc:creator>acer</dc:creator>
  <dc:description/>
  <dc:language>en-US</dc:language>
  <cp:lastModifiedBy>Admin</cp:lastModifiedBy>
  <dcterms:modified xsi:type="dcterms:W3CDTF">2015-02-05T10:56:42Z</dcterms:modified>
  <cp:revision>159</cp:revision>
  <dc:subject/>
  <dc:title>Воздух- невидимка</dc:title>
</cp:coreProperties>
</file>